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9DCB-2ABD-4626-AF8D-30DB5461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6AD4-F831-40C0-B74D-29081A59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D6A2-A1EF-4DFA-898F-37E624D2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5547-BF76-4324-AB84-8D8BF1C95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8106-87D1-4E49-BC3B-73E3EAFF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34A2-88FB-4809-AC2C-8B7102D54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6275-78C0-4429-B083-076BBF0EC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592F-8254-4A56-9563-4A08F7AC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F93D-0DD6-4B57-BD8E-3E7CC9C4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D719-947B-425B-8201-77E77FDD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F01-2131-4DE3-9433-E4E9388A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8143-7463-4504-A82A-017FC3A5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A35-70F4-4B38-B8EE-CF6F296BE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7563-22F7-436B-8B09-0D3E36323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8"/>
          <p:cNvSpPr/>
          <p:nvPr/>
        </p:nvSpPr>
        <p:spPr>
          <a:xfrm>
            <a:off x="230400" y="4096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bttn_exit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8" descr="bttn_next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1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echnology and Industrial Grow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30400" y="4096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ttn_prev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ttn_exit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ttn_next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echnology and Industrial Grow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912960" y="182736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factors that led to the industrialization of the United States in the late 180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how new inventions and innovations changed Americans’ liv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impact of industrialization in the late 1800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55760" y="11415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2"/>
          <p:cNvSpPr/>
          <p:nvPr/>
        </p:nvSpPr>
        <p:spPr>
          <a:xfrm>
            <a:off x="914400" y="14986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aily life changed dramatically as a result of new technologi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946080" y="4343400"/>
            <a:ext cx="5759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ssemer proce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purified iron to create steel, changed construction. Steel made skyscrapers an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uspension bridg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ossi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9" descr="SuspensionBridge"/>
          <p:cNvPicPr/>
          <p:nvPr/>
        </p:nvPicPr>
        <p:blipFill>
          <a:blip r:embed="rId1"/>
          <a:stretch/>
        </p:blipFill>
        <p:spPr>
          <a:xfrm>
            <a:off x="6629400" y="4444920"/>
            <a:ext cx="1733400" cy="1238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946080" y="27892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se’s telegraph gave rise to a 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</a:rPr>
              <a:t>communications revolution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telephone debuted in 1876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ireless telegraph in 1896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7"/>
          <p:cNvSpPr/>
          <p:nvPr/>
        </p:nvSpPr>
        <p:spPr>
          <a:xfrm>
            <a:off x="5715000" y="1676520"/>
            <a:ext cx="28195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ailroads expan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led to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hysical and economic growth of c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cago, Atlanta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Pittsburgh became important hub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20" descr=""/>
          <p:cNvPicPr/>
          <p:nvPr/>
        </p:nvPicPr>
        <p:blipFill>
          <a:blip r:embed="rId1"/>
          <a:stretch/>
        </p:blipFill>
        <p:spPr>
          <a:xfrm>
            <a:off x="579600" y="1371600"/>
            <a:ext cx="498312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7"/>
          <p:cNvSpPr/>
          <p:nvPr/>
        </p:nvSpPr>
        <p:spPr>
          <a:xfrm>
            <a:off x="533520" y="1905120"/>
            <a:ext cx="815328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88880" y="1371600"/>
          <a:ext cx="8153640" cy="533520"/>
        </p:xfrm>
        <a:graphic>
          <a:graphicData uri="http://schemas.openxmlformats.org/drawingml/2006/table">
            <a:tbl>
              <a:tblPr/>
              <a:tblGrid>
                <a:gridCol w="81536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ilroads Changed Ame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5800" y="2057400"/>
          <a:ext cx="7772400" cy="3886200"/>
        </p:xfrm>
        <a:graphic>
          <a:graphicData uri="http://schemas.openxmlformats.org/drawingml/2006/table">
            <a:tbl>
              <a:tblPr/>
              <a:tblGrid>
                <a:gridCol w="2133720"/>
                <a:gridCol w="5638680"/>
              </a:tblGrid>
              <a:tr h="2244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hey encouraged innovati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brakes were invented in 1869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rigerated cars were invented to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 foo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ime zone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ere se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83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hey led to the growth of industr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es obtained raw materials easil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y sold products to people far awa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1"/>
          <p:cNvSpPr/>
          <p:nvPr/>
        </p:nvSpPr>
        <p:spPr>
          <a:xfrm>
            <a:off x="5257800" y="4038480"/>
            <a:ext cx="327672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5562720" y="42670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any Americans moved to cities to find w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22"/>
          <p:cNvSpPr/>
          <p:nvPr/>
        </p:nvSpPr>
        <p:spPr>
          <a:xfrm rot="16200000">
            <a:off x="4214520" y="4208040"/>
            <a:ext cx="1219320" cy="1295280"/>
          </a:xfrm>
          <a:prstGeom prst="downArrow">
            <a:avLst>
              <a:gd name="adj1" fmla="val 50000"/>
              <a:gd name="adj2" fmla="val 26557"/>
            </a:avLst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1052640" y="4017960"/>
            <a:ext cx="327636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2043000" y="2874960"/>
            <a:ext cx="1219320" cy="1295280"/>
          </a:xfrm>
          <a:prstGeom prst="downArrow">
            <a:avLst>
              <a:gd name="adj1" fmla="val 50000"/>
              <a:gd name="adj2" fmla="val 26557"/>
            </a:avLst>
          </a:prstGeom>
          <a:gradFill rotWithShape="0">
            <a:gsLst>
              <a:gs pos="0">
                <a:srgbClr val="ffdcb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1052640" y="1351080"/>
            <a:ext cx="609588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cb9"/>
              </a:gs>
            </a:gsLst>
            <a:lin ang="5400000"/>
          </a:gradFill>
          <a:ln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357200" y="1503360"/>
            <a:ext cx="5481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erica exported grain, steel, and textiles in huge amounts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ecame a world economic pow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1281240" y="426708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chanization of farming meant fewer farmers were needed to produce fo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5" descr="hsus_ch13_s1_smokestacks"/>
          <p:cNvPicPr/>
          <p:nvPr/>
        </p:nvPicPr>
        <p:blipFill>
          <a:blip r:embed="rId1">
            <a:lum bright="8000"/>
          </a:blip>
          <a:srcRect l="0" t="0" r="0" b="8108"/>
          <a:stretch/>
        </p:blipFill>
        <p:spPr>
          <a:xfrm>
            <a:off x="-152280" y="2484360"/>
            <a:ext cx="9601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2"/>
          <p:cNvGrpSpPr/>
          <p:nvPr/>
        </p:nvGrpSpPr>
        <p:grpSpPr>
          <a:xfrm>
            <a:off x="1371240" y="1523520"/>
            <a:ext cx="7086960" cy="3886200"/>
            <a:chOff x="1371240" y="1523520"/>
            <a:chExt cx="7086960" cy="3886200"/>
          </a:xfrm>
        </p:grpSpPr>
        <p:sp>
          <p:nvSpPr>
            <p:cNvPr id="152" name="Text Box 7"/>
            <p:cNvSpPr/>
            <p:nvPr/>
          </p:nvSpPr>
          <p:spPr>
            <a:xfrm>
              <a:off x="5562720" y="2362320"/>
              <a:ext cx="289548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In response, Congress set aside protected lands.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Yellowstone Park was created in 1872.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 flipH="1" rot="5400000">
              <a:off x="1370520" y="1523520"/>
              <a:ext cx="3886200" cy="3886200"/>
            </a:xfrm>
            <a:prstGeom prst="upArrowCallout">
              <a:avLst>
                <a:gd name="adj1" fmla="val 26067"/>
                <a:gd name="adj2" fmla="val 18875"/>
                <a:gd name="adj3" fmla="val 14856"/>
                <a:gd name="adj4" fmla="val 45268"/>
              </a:avLst>
            </a:prstGeom>
            <a:gradFill rotWithShape="0">
              <a:gsLst>
                <a:gs pos="0">
                  <a:srgbClr val="cdcd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4"/>
          <p:cNvSpPr/>
          <p:nvPr/>
        </p:nvSpPr>
        <p:spPr>
          <a:xfrm>
            <a:off x="1676520" y="1981080"/>
            <a:ext cx="24382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beg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aise concerns about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the impact of industrialization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on the environment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912960" y="1676520"/>
            <a:ext cx="761976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ntrepreneu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who invest money in a product or enterprise in order to make a prof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rotective tariff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axes that would make imported goods cost more than those made loca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aissez fair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olicy which allowed businesses to operate under minimal government regu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at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grant by the federal government giving an inventor the exclusive right to develop, use, and sell an invention for a set period of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2960" y="1676160"/>
            <a:ext cx="769608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homas Edis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inventor and creative genius who received more than 1,000 patents for new inven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ssemer proces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rocess for purifying iron resulting in strong, but lightweight, ste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uspension brid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idges in which the roadway is suspended by steel 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ime zon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wenty-four zones around the world, one for each hour of the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produc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ystems that depended on machinery to turn out large numbers of products quickly and inexpens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55760" y="117324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1295280" y="16002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did industrialization and new technology affect the economy and society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295280" y="2971800"/>
            <a:ext cx="73137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erica began a major transformation after the end of the Civil War marked by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xpanding business and industrial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“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industrial revolu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” led by scientists and inventors, improved people’s daily liv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17" descr="HSUS09_EQ_logoSmall"/>
          <p:cNvPicPr/>
          <p:nvPr/>
        </p:nvPicPr>
        <p:blipFill>
          <a:blip r:embed="rId1"/>
          <a:stretch/>
        </p:blipFill>
        <p:spPr>
          <a:xfrm>
            <a:off x="752400" y="17082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8"/>
          <p:cNvSpPr/>
          <p:nvPr/>
        </p:nvSpPr>
        <p:spPr>
          <a:xfrm flipH="1" rot="10792800">
            <a:off x="1101240" y="1333080"/>
            <a:ext cx="6934320" cy="2362320"/>
          </a:xfrm>
          <a:prstGeom prst="upArrowCallout">
            <a:avLst>
              <a:gd name="adj1" fmla="val 35038"/>
              <a:gd name="adj2" fmla="val 31039"/>
              <a:gd name="adj3" fmla="val 32625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1257480" y="140976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veral factors led to increased industrial growth during the Civil War. This laid the groundwork for postwar prosperi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30"/>
          <p:cNvSpPr/>
          <p:nvPr/>
        </p:nvSpPr>
        <p:spPr>
          <a:xfrm>
            <a:off x="1295280" y="3879720"/>
            <a:ext cx="67820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tories used new tools and methods to produc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upplies in big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ailroads expand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cross the nat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vernmen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ncouraged immigr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9"/>
          <p:cNvSpPr/>
          <p:nvPr/>
        </p:nvSpPr>
        <p:spPr>
          <a:xfrm>
            <a:off x="6248520" y="166680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reat many immigrants to the United States were pushed from their homelands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61"/>
          <p:cNvSpPr/>
          <p:nvPr/>
        </p:nvSpPr>
        <p:spPr>
          <a:xfrm>
            <a:off x="6251400" y="3565440"/>
            <a:ext cx="25146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Aft>
                <a:spcPts val="62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itical upheaval at h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spcAft>
                <a:spcPts val="62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discrim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spcAft>
                <a:spcPts val="62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p fail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8" descr="hsus_ch13_s1_Steerage3"/>
          <p:cNvPicPr/>
          <p:nvPr/>
        </p:nvPicPr>
        <p:blipFill>
          <a:blip r:embed="rId1"/>
          <a:stretch/>
        </p:blipFill>
        <p:spPr>
          <a:xfrm>
            <a:off x="0" y="1600200"/>
            <a:ext cx="60148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9"/>
          <p:cNvSpPr/>
          <p:nvPr/>
        </p:nvSpPr>
        <p:spPr>
          <a:xfrm>
            <a:off x="2971800" y="3657600"/>
            <a:ext cx="563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Verdana"/>
              </a:rPr>
              <a:t>Entrepreneurs fueled industrialization in the late 1800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benefited from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aissez-fai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olicies, which allowed businesses to work under minimal government regul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609480" y="1650960"/>
            <a:ext cx="6324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merican system of capitalism is one in which individuals own most businesses. Thes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ntreprene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vest money in products in order to make profi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2" descr="small_money_bags"/>
          <p:cNvPicPr/>
          <p:nvPr/>
        </p:nvPicPr>
        <p:blipFill>
          <a:blip r:embed="rId1"/>
          <a:stretch/>
        </p:blipFill>
        <p:spPr>
          <a:xfrm>
            <a:off x="6791400" y="1371600"/>
            <a:ext cx="1590480" cy="1647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0" descr="bills_wrapped_color"/>
          <p:cNvPicPr/>
          <p:nvPr/>
        </p:nvPicPr>
        <p:blipFill>
          <a:blip r:embed="rId2"/>
          <a:stretch/>
        </p:blipFill>
        <p:spPr>
          <a:xfrm rot="396600">
            <a:off x="151920" y="4043160"/>
            <a:ext cx="281952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95"/>
          <p:cNvSpPr/>
          <p:nvPr/>
        </p:nvSpPr>
        <p:spPr>
          <a:xfrm>
            <a:off x="1143000" y="1981080"/>
            <a:ext cx="685800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6"/>
          <p:cNvSpPr/>
          <p:nvPr/>
        </p:nvSpPr>
        <p:spPr>
          <a:xfrm>
            <a:off x="1508040" y="140184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jor Inventions of the 1800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47840" y="2057400"/>
          <a:ext cx="6477120" cy="3657600"/>
        </p:xfrm>
        <a:graphic>
          <a:graphicData uri="http://schemas.openxmlformats.org/drawingml/2006/table">
            <a:tbl>
              <a:tblPr/>
              <a:tblGrid>
                <a:gridCol w="2158920"/>
                <a:gridCol w="2422440"/>
                <a:gridCol w="189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en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Major in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uel M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legra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as H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wing ma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sha Otis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fety elev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omas Ed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bu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nville W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am bo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6"/>
          <p:cNvSpPr/>
          <p:nvPr/>
        </p:nvSpPr>
        <p:spPr>
          <a:xfrm>
            <a:off x="3962520" y="1600200"/>
            <a:ext cx="472428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homas Edis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as the most prolific inventor of the e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and his team of workers develop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ight bulb, the phonograph, the motion picture camera,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hundreds of new product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0" descr="HSUS_ch13_s1_Edison"/>
          <p:cNvPicPr/>
          <p:nvPr/>
        </p:nvPicPr>
        <p:blipFill>
          <a:blip r:embed="rId1"/>
          <a:stretch/>
        </p:blipFill>
        <p:spPr>
          <a:xfrm>
            <a:off x="533520" y="1523880"/>
            <a:ext cx="3333600" cy="35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13:36Z</dcterms:modified>
  <cp:revision>143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